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BFB6-4781-4CA9-B4D1-23EFF4FE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186-3705-4244-A2EB-D660C281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C57-749F-4899-8A17-C3CF5090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AB28-CDE7-4701-9B72-FEE60058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811-A3D5-45BD-86DF-E1585465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6EC-B39F-471B-82E9-6C6C2D00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4F3-4CDF-4EF0-A92D-9806FDAF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1E7-B35F-4E19-9FFE-33713F63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155-78ED-4A15-A340-4BF0029C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1C8-6701-4C5C-8B55-28CF7729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8F0C-F23F-485A-9005-A0899086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5F8-5AC5-48C7-9EDA-462D931E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0A23-D33F-49B7-9077-BE7DD299EED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781360"/>
            <a:ext cx="5410080" cy="22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000000"/>
                </a:solidFill>
                <a:latin typeface="Tahoma"/>
                <a:cs typeface="????Boutros Rokaa"/>
              </a:rPr>
              <a:t>وحدت يا رب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58920" y="1981080"/>
            <a:ext cx="76564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حّدتَ يا ربُّ لاهوتَكَ بناسوتِنا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ناسوتَنا بلاهوتِكَ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حياتَكَ بموتِنا وموتَنا بحياتِك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78320" y="0"/>
            <a:ext cx="5486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خذتَ ما ل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وهبتنا ما لكَ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تُحيينا وتُخلِّص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كَ المجدُ إلى الأبد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7-04-03T19:08:50Z</dcterms:modified>
  <cp:revision>8</cp:revision>
  <dc:subject/>
  <dc:title>PowerPoint Presentation</dc:title>
</cp:coreProperties>
</file>